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B521-829C-4A8F-9E22-88C8EA96C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20A398-8A73-44C8-9067-B908E1A2DE5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9ABE-5909-4DD3-A265-6B2B8A3F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3858-06CC-4F57-A9A3-A9E5342A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0350-9985-40F8-8EE5-6DF6927E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F95B-851E-4BA9-97C0-6E377195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9114-1DBC-4319-BF88-FFE65BEA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0420-6FDF-42CB-BA37-2F92E1E1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7FD5-6AB0-4EDD-B37E-5C3A474D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2ABA-7C04-4FBB-BD77-2D56B883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33EE-DAA2-4774-B09A-15D3DA1C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712C-1DDC-455F-8B1D-F1BBB394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AF68-01FB-496E-92A9-F830CDC6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ABFC-2847-425D-AEBC-51E0D8F8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969D-C6D9-4468-BC9F-B1CA5035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E7E5-6186-48ED-BB87-801E316A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41A0-7554-480D-AA49-C42A9B1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BE4C-95DA-403E-94D0-25BF5326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9408-C693-4CD9-935B-25F0080A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0E89-9A14-4A5D-9667-E1893738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9A2A-8A8E-4357-94F9-0504943F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82BB-559C-4009-A673-24902EED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DD4F-CCD7-4E2C-B331-781BA66F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8E3B-25DD-4A02-A4D1-F5E37704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80F4-BA63-4079-B9AE-1252094C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21D2-D043-4478-B464-381CE78C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73F8-D6E6-44D1-9299-A698EF9C4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6416-342E-4426-B231-B41BBE70CE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basis for evaluating 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effectivenes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echnical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ocative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ynamic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n-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Overall, focus in this area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ive and dynamic efficien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ing emphasis in some market segments on non-market social val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ffects on technical efficiency should always also be under conside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rvey of current U.S. policy mi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t possible to characterize the evolution of policy over time as beco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publicly ba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privately ba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x keeps changing in different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ook at policies using the framework discussed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safety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rna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rimarily direct regul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da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 with shift in emphasis to more private responsibility—preventative 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food safety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od Safety and Inspection Service (FSIS)—US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t, poultry, and processed egg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ous insp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CCP for meat and poult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od and Drug Administration (F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other f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iodic insp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CCP for seafood and ju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trition quality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rna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label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nutrition quality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DA &amp; 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tritio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e VI labeling of nutrition content in nutrition facts pan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e V labeling of nutrient content and health clai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sight of other voluntary clai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 on dietary guidelines &amp; healthy 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ignment of programs such as WIC and School Lunch/Breakfast with dietary guideli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nsory/organoleptic &amp; value/function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opolistic competition and concentrated market po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datory Type VI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certif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untary Type V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sensory/organoleptic &amp; value/function agencies and 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y broad range of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, grades and standards; quality grade marks for fruits, vegetables,  and mea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ad range of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, standards of identity, quantity, and f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s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s ar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 failure due to 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ote non-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Type VI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certification if using some voluntary claims (e.g., organi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certification and labeling (Type V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process attribute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gricultural Marketing Service (AMS)—US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y broad range of programs, for 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ry of origi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standards and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dit and accreditation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DA Process Verified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LLENGES IN CHOOSING THE MIX OF PUBLIC AND PRIVATE STANDARDS FOR FOOD QUALITY ASSUR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ie A. Casw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tional pattern of standards for process attribut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For the range of process attribute oriented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icult to identify a level of market fail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at consistently propels an issue forward strongly enoug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federal marketing policy to be viewed as warra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Lobbying by interested parties in support of government action may be the strongest factor in establishing these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ad map for policy eval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Outline the quality attributes or external indicators and cues the policy is addres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alternative suites of attributes, cues, and indicators that it might addr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rticulate policy ration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efine policy instru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luding responsibilities for standard setting, certification to standards, and lab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valuate policy perform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tions for adjusting federal food quality assurance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Evaluation of existing and proposed polic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what quality assurance issues related t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attributes should be address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what policy instru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cus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isks (public health, market, trade, consumer perception, social sensitivity) the policy would be addres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nefits and costs of taking or not taking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act on performance cri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ystematic appro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ould focus limited governmental resources on important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islators, administrations, and agency personnel could respond systematical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calls for government action in markets for food quality attribut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anies, consumers, and citizens could evaluate what types of quality assur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suited to first-, second-, and third-party activities versus government policy or hybrid syste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ederal government faces challenges in choosing food quality polici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arge volume of domestic and international agricultural and food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Range of quality attributes of interest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vernment agen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ly chain particip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ivate sector/third party assurance systems are becoming increasingly sophistic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ramework for characterizing and evaluating federal poli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ased 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ty attribute targe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tionales for government policies and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jor type of policy instrument 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rect regulation: Setting and enforcing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mandat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minimum standards and/or labeling requir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sight/support of markets: 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ting, overseeing, and/or guid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volunta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tandards and/or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es for evaluating  policy effective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ich quality attribut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re targete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752480"/>
          <a:ext cx="6324840" cy="457200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insic Quality Attribut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.   Food safe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foodborne pathogens, pesticide residu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514"/>
                        </a:buClr>
                        <a:buSzPct val="70000"/>
                        <a:buFont typeface="Garamond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utri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.   Sensory/organolet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taste and tenderness, colo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.   Value/func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compositional integr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.   Proces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animal welfare, organic, use of GMO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re the economic rational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 public policy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66680" y="1752480"/>
          <a:ext cx="6858000" cy="44197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 Unsatisfactory Performanc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.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llocative inefficiency—market failure due to: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nadequate informa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9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re likely with credence attributes, less likely with experience and search attribute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nopolistic competition and concentrated market pow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xtern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.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ailure to meet non-market social valu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5800" y="345600"/>
            <a:ext cx="834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policy instruments are used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8352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horthand for policy instruments us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752480"/>
          <a:ext cx="6858000" cy="30481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rect regulation: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692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Regulatory policies focused on setting and enforcing mandatory minimum standards and/or labeling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versight/support of market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icies focused on building markets; supporting fair trade; and setting, overseeing, and/or guiding voluntary standards and labeling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08000" y="836640"/>
          <a:ext cx="8889840" cy="5769000"/>
        </p:xfrm>
        <a:graphic>
          <a:graphicData uri="http://schemas.openxmlformats.org/drawingml/2006/table">
            <a:tbl>
              <a:tblPr/>
              <a:tblGrid>
                <a:gridCol w="581040"/>
                <a:gridCol w="1366920"/>
                <a:gridCol w="1365120"/>
                <a:gridCol w="1131840"/>
                <a:gridCol w="4444920"/>
              </a:tblGrid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wner of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beling Standard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mary Means of Label Certification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beling Approach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individual companies based on self-declared standards, with self certification by buyer or seller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ve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collective self-declared standards, with self certification by buyer or seller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ve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collective self-declared standards, with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epend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standards set by independent body (e.g., non-governmental organization, private certification body), with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 or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government standard, with government or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dato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government standard, with government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"/>
          <p:cNvSpPr/>
          <p:nvPr/>
        </p:nvSpPr>
        <p:spPr>
          <a:xfrm>
            <a:off x="250920" y="-41400"/>
            <a:ext cx="87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Times New Roman"/>
              </a:rPr>
              <a:t>Which, if any, labeling type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22:39:24Z</dcterms:modified>
  <cp:revision>40</cp:revision>
  <dc:subject/>
  <dc:title>U.S. Policies Affecting Food and Agricultural Marketing</dc:title>
</cp:coreProperties>
</file>